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2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5032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3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4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6EA63-DED2-4C05-B129-A4310AEBFCB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244D4-C33D-40F9-9EC5-0FDCA147AB7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see I have changed this slide to reflect the LOBs in th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E1485-1070-4A65-98A3-2862AD7B982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0760" y="4719240"/>
            <a:ext cx="5443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5EE01-9FF1-4276-9B98-4E0B0A07B5A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0760" y="4719240"/>
            <a:ext cx="5443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77554-6DB2-49AD-AE70-2EE424AB44F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0760" y="4719240"/>
            <a:ext cx="5443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H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F78C-77EC-49DF-B8C3-B3C9C47B8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83754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5560" y="3785400"/>
            <a:ext cx="83754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A1EE-C272-44CE-96AC-E2109EEAD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556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8B37-6672-4866-BFBB-A961B6F52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7680" y="142884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42884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5560" y="378540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7680" y="378540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8540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F867-9CBE-42DE-A1D9-217A6FD67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9440" y="428400"/>
            <a:ext cx="837072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556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1FCC-1F69-43BF-8631-A944ACD64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5560" y="3785400"/>
            <a:ext cx="83754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83754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5560" y="3785400"/>
            <a:ext cx="83754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556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7680" y="142884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42884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5560" y="378540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7680" y="378540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8540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1114-AF94-46F3-A04D-3CA9B67B02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9440" y="428400"/>
            <a:ext cx="837072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556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48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5560" y="3785400"/>
            <a:ext cx="83754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83754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5560" y="3785400"/>
            <a:ext cx="83754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556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48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7680" y="142884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142884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5560" y="378540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7680" y="378540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85400"/>
            <a:ext cx="269676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620D-F02E-4AFD-9D84-65A2167D9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6E1E-36F1-4E32-AA6D-FCF5276CB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9440" y="428400"/>
            <a:ext cx="837072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5A56-1145-4977-82D2-4B1323A47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556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C458-45C5-424E-A9B6-84786AE7E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8540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6869-B0E8-4EE4-A2A1-05A972D5A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428840"/>
            <a:ext cx="408708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5560" y="3785400"/>
            <a:ext cx="8375400" cy="215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C7BA-41A7-46F0-81A4-9012FAB4A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499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6160" indent="-317520">
              <a:spcBef>
                <a:spcPts val="499"/>
              </a:spcBef>
              <a:spcAft>
                <a:spcPts val="601"/>
              </a:spcAft>
              <a:buClr>
                <a:srgbClr val="ebaf00"/>
              </a:buClr>
              <a:buSzPct val="9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74680">
              <a:spcBef>
                <a:spcPts val="499"/>
              </a:spcBef>
              <a:spcAft>
                <a:spcPts val="601"/>
              </a:spcAft>
              <a:buClr>
                <a:srgbClr val="ffda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511360" indent="-9795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11360" indent="-9795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511360" indent="-9795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251920" y="6327720"/>
            <a:ext cx="4982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D6B7-A292-4E5B-8AAB-38C3ED991C53}" type="slidenum"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408960" y="6378480"/>
            <a:ext cx="11224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35235"/>
                </a:solidFill>
                <a:latin typeface="Arial"/>
              </a:rPr>
              <a:t>towerswatso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5032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4" name="TextBox 9"/>
          <p:cNvSpPr/>
          <p:nvPr/>
        </p:nvSpPr>
        <p:spPr>
          <a:xfrm>
            <a:off x="3517920" y="6521400"/>
            <a:ext cx="5327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Towers Watson. All rights reserved. Proprietary and Confidential. For Towers Watson and Towers Watson client use only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276120" y="289080"/>
            <a:ext cx="8589960" cy="480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9"/>
          <p:cNvSpPr/>
          <p:nvPr/>
        </p:nvSpPr>
        <p:spPr>
          <a:xfrm>
            <a:off x="302400" y="6518160"/>
            <a:ext cx="1788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2011 Towers Watson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tw_hrz_rgb_pos_wht"/>
          <p:cNvPicPr/>
          <p:nvPr/>
        </p:nvPicPr>
        <p:blipFill>
          <a:blip r:embed="rId2"/>
          <a:stretch/>
        </p:blipFill>
        <p:spPr>
          <a:xfrm>
            <a:off x="6108840" y="6016680"/>
            <a:ext cx="2844720" cy="815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499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6160" indent="-317520">
              <a:spcBef>
                <a:spcPts val="499"/>
              </a:spcBef>
              <a:spcAft>
                <a:spcPts val="601"/>
              </a:spcAft>
              <a:buClr>
                <a:srgbClr val="ebaf00"/>
              </a:buClr>
              <a:buSzPct val="9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74680">
              <a:spcBef>
                <a:spcPts val="499"/>
              </a:spcBef>
              <a:spcAft>
                <a:spcPts val="601"/>
              </a:spcAft>
              <a:buClr>
                <a:srgbClr val="ffda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511360" indent="-9795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11360" indent="-9795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511360" indent="-9795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5032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ircle"/>
          <p:cNvPicPr/>
          <p:nvPr/>
        </p:nvPicPr>
        <p:blipFill>
          <a:blip r:embed="rId2"/>
          <a:stretch/>
        </p:blipFill>
        <p:spPr>
          <a:xfrm>
            <a:off x="274680" y="291960"/>
            <a:ext cx="8585280" cy="481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9"/>
          <p:cNvSpPr/>
          <p:nvPr/>
        </p:nvSpPr>
        <p:spPr>
          <a:xfrm>
            <a:off x="300240" y="6518160"/>
            <a:ext cx="1788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2010 Towers Watson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tw_hrz_rgb_pos_wht"/>
          <p:cNvPicPr/>
          <p:nvPr/>
        </p:nvPicPr>
        <p:blipFill>
          <a:blip r:embed="rId3"/>
          <a:stretch/>
        </p:blipFill>
        <p:spPr>
          <a:xfrm>
            <a:off x="6108840" y="6016680"/>
            <a:ext cx="2844720" cy="815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499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6160" indent="-317520">
              <a:spcBef>
                <a:spcPts val="499"/>
              </a:spcBef>
              <a:spcAft>
                <a:spcPts val="601"/>
              </a:spcAft>
              <a:buClr>
                <a:srgbClr val="ebaf00"/>
              </a:buClr>
              <a:buSzPct val="9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74680">
              <a:spcBef>
                <a:spcPts val="499"/>
              </a:spcBef>
              <a:spcAft>
                <a:spcPts val="601"/>
              </a:spcAft>
              <a:buClr>
                <a:srgbClr val="ffda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511360" indent="-9795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11360" indent="-9795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511360" indent="-9795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5032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PT-images-200245814-001.jpg"/>
          <p:cNvPicPr/>
          <p:nvPr/>
        </p:nvPicPr>
        <p:blipFill>
          <a:blip r:embed="rId1"/>
          <a:stretch/>
        </p:blipFill>
        <p:spPr>
          <a:xfrm>
            <a:off x="276120" y="291960"/>
            <a:ext cx="8591760" cy="4810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2680" y="3008160"/>
            <a:ext cx="3160800" cy="1379520"/>
          </a:xfrm>
          <a:prstGeom prst="rect">
            <a:avLst/>
          </a:prstGeom>
          <a:solidFill>
            <a:srgbClr val="e65032"/>
          </a:solidFill>
          <a:ln w="0">
            <a:noFill/>
          </a:ln>
        </p:spPr>
        <p:txBody>
          <a:bodyPr lIns="182880" tIns="27360" bIns="1836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ing the Dynamics of Bancassurance in India</a:t>
            </a: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5920" y="4473360"/>
            <a:ext cx="7835760" cy="37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82880" tIns="18360" bIns="18360" anchor="ctr">
            <a:noAutofit/>
          </a:bodyPr>
          <a:p>
            <a:pPr indent="0">
              <a:lnSpc>
                <a:spcPts val="18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t takes from Policymakers and the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wPresenter"/>
          <p:cNvSpPr/>
          <p:nvPr/>
        </p:nvSpPr>
        <p:spPr>
          <a:xfrm>
            <a:off x="109440" y="5173560"/>
            <a:ext cx="5813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CA, Mumba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 Feb 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8251920" y="6327720"/>
            <a:ext cx="4982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773B-A76B-400B-A0E4-5D27A6E86EE9}" type="slidenum">
              <a:rPr b="1" lang="en-US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425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5032"/>
                </a:solidFill>
                <a:latin typeface="Arial"/>
              </a:rPr>
              <a:t>A few insights on Banca</a:t>
            </a: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9080" y="1585440"/>
            <a:ext cx="5799240" cy="52419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26080" indent="-226080">
              <a:lnSpc>
                <a:spcPct val="110000"/>
              </a:lnSpc>
              <a:spcAft>
                <a:spcPts val="799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life insurance as a whole, banks’ share of NBP was 16.2% in FY 13 (up from 15% in FY 12)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0000"/>
              </a:lnSpc>
              <a:spcAft>
                <a:spcPts val="799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nsurers other than LIC, corporate agents contributed 49% of NBP in FY13. Banks accounted for 46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00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verage ticket size from individual agents was about Rs.12000  (stagnant for the past 5 years), while the average size from banks Rs.32,000 (50% rise during the past 5 yea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00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GI companies, banca’s share was 6% in FY 1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4640">
              <a:spcBef>
                <a:spcPts val="176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 30%, PA 11%, Fire 8%,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00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s collected  Rs.870 crores health premium in FY 13 (26% grow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00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of 341,000 customer complaints in FY 13 under life bi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4640">
              <a:spcBef>
                <a:spcPts val="201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50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unfair business complaints’ (rise of 68% over FY1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00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of 79,000 complaints in G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4640">
              <a:spcBef>
                <a:spcPts val="176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otor and Health account for 70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531120" y="1585800"/>
            <a:ext cx="2514600" cy="4321440"/>
          </a:xfrm>
          <a:prstGeom prst="rect">
            <a:avLst/>
          </a:prstGeom>
          <a:solidFill>
            <a:srgbClr val="eb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rmAutofit fontScale="95000"/>
          </a:bodyPr>
          <a:p>
            <a:pPr marL="108720" indent="-108720">
              <a:spcAft>
                <a:spcPts val="876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In the face of decline in agency, life companies have come to rely more and more on b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spcAft>
                <a:spcPts val="876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Banks push higher ticket sizes, at the expense of term plans, micro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spcAft>
                <a:spcPts val="876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uge gap in banks’ track record of persistency in life b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spcAft>
                <a:spcPts val="876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rowing number  of insurance complaints from bank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spcAft>
                <a:spcPts val="876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I way behind life in exploiting 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spcAft>
                <a:spcPts val="876"/>
              </a:spcAft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Banca shows huge promise in health insur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251920" y="6327720"/>
            <a:ext cx="4982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1B37-84D6-40AC-8768-697F69959640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9080" y="428760"/>
            <a:ext cx="8481960" cy="823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5032"/>
                </a:solidFill>
                <a:latin typeface="Arial"/>
              </a:rPr>
              <a:t>Banca Paradigm</a:t>
            </a:r>
            <a:br>
              <a:rPr sz="2400"/>
            </a:b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442520"/>
            <a:ext cx="6359400" cy="4906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4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47760" y="1303200"/>
          <a:ext cx="8402400" cy="5338800"/>
        </p:xfrm>
        <a:graphic>
          <a:graphicData uri="http://schemas.openxmlformats.org/drawingml/2006/table">
            <a:tbl>
              <a:tblPr/>
              <a:tblGrid>
                <a:gridCol w="2836800"/>
                <a:gridCol w="2712960"/>
                <a:gridCol w="2852640"/>
              </a:tblGrid>
              <a:tr h="436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ymak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a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00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4af"/>
                    </a:solidFill>
                  </a:tcPr>
                </a:tc>
              </a:tr>
              <a:tr h="3205440"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s as corporate agents – a unique set of regulations in FY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 of poor penetration and service in banking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ing change on any form of sales incentive at 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 a tearing hurry to introduce a broking model across 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a6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s with divergent agen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 record of poor cross se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ungous issues on the HR fro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 adaptation and use of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78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 with divergent agenda concerning bank distribu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ly on customer acqui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en to tap banks mostly for high tickets; no real interest on the low mass mark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ingness to bend the rules to ‘accommodate’ bank distribu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cfcf"/>
                    </a:solidFill>
                  </a:tcPr>
                </a:tc>
              </a:tr>
              <a:tr h="391320"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ured bank cust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608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ind faith in banks, often obligated to the branch manage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ce of independent evaluation or communication before buying insu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ge post-sale issu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liable grievance redress mechanis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251920" y="6327720"/>
            <a:ext cx="4982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F0BB-5E2E-4460-89D7-7AFBA8644861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65032"/>
                </a:solidFill>
                <a:latin typeface="Arial"/>
              </a:rPr>
              <a:t>Way Forward (1)</a:t>
            </a: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26080" indent="-22608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nsurers and banks need to realise that the current scenario is far from customer-centric. Relentless product push and exploiting the ignorance of bank customers are not in their long term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Banks need to realise that poor insurance sales practices may hurt the banking business - customer churns and reputation r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There is no alternative to developing a competent advice-based sales force at bank bra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t is not possible to train the existing staff with their current onerous routine and focus on demanding issues on the banking fr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Banks need to recruit a cadre of sales specialists, and train them thoroughly to offer honest, advice-based sales and service on insurance, MF and pensions of more than one offer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Re-write HR policies. Past experience of recruiting specialist staff in functions such as rural ba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8251920" y="6327720"/>
            <a:ext cx="4982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73F2-266B-46D7-8A2E-BC8E0113AF7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65032"/>
                </a:solidFill>
                <a:latin typeface="Arial"/>
              </a:rPr>
              <a:t>Way Forward (2)</a:t>
            </a: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83000"/>
          </a:bodyPr>
          <a:p>
            <a:pPr marL="189720" indent="-18972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Banks offering honest advice-based sales would help to expand the banca segment exponentially, benefiting the entire indus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Banks with insurance JVs should provide a le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Allow time for the new model to take roots. Relax the broking rules on cap for single company sal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Make Banking Ombudsman also responsible to resolve insurance-related issues. Equip the Ombudsman to take up the enlarged r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rying need for product innovation in b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188280">
              <a:spcBef>
                <a:spcPts val="201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600" spc="-1" strike="noStrike">
                <a:solidFill>
                  <a:srgbClr val="000000"/>
                </a:solidFill>
                <a:latin typeface="Arial"/>
              </a:rPr>
              <a:t>Limit the offering to just few, but make them relev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188280">
              <a:spcBef>
                <a:spcPts val="201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600" spc="-1" strike="noStrike">
                <a:solidFill>
                  <a:srgbClr val="000000"/>
                </a:solidFill>
                <a:latin typeface="Arial"/>
              </a:rPr>
              <a:t>Combi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188280">
              <a:spcBef>
                <a:spcPts val="201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600" spc="-1" strike="noStrike">
                <a:solidFill>
                  <a:srgbClr val="000000"/>
                </a:solidFill>
                <a:latin typeface="Arial"/>
              </a:rPr>
              <a:t>Health Saving Pla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spcBef>
                <a:spcPts val="499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Role of actuaries in product design for b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188280">
              <a:spcBef>
                <a:spcPts val="224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Huge need for business analy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188280">
              <a:spcBef>
                <a:spcPts val="224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Realistic assessment of morbidity and other risks on the banca fr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9440" indent="-188280">
              <a:spcBef>
                <a:spcPts val="224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A fresh approach for rural insurance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251920" y="6327720"/>
            <a:ext cx="4982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87F8-7F7A-44A9-90CD-DA51F405A1C4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9440" y="428400"/>
            <a:ext cx="83707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65032"/>
                </a:solidFill>
                <a:latin typeface="Arial"/>
              </a:rPr>
              <a:t>Way Forward (3)</a:t>
            </a:r>
            <a:endParaRPr b="1" lang="en-US" sz="2400" spc="-1" strike="noStrike">
              <a:solidFill>
                <a:srgbClr val="e650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5560" y="1428840"/>
            <a:ext cx="8375400" cy="45115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28600" indent="-228600">
              <a:spcBef>
                <a:spcPts val="451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rying need for product innovation in ban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01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600" spc="-1" strike="noStrike">
                <a:solidFill>
                  <a:srgbClr val="000000"/>
                </a:solidFill>
                <a:latin typeface="Arial"/>
              </a:rPr>
              <a:t>Limit the offering to just few, but make them relev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01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600" spc="-1" strike="noStrike">
                <a:solidFill>
                  <a:srgbClr val="000000"/>
                </a:solidFill>
                <a:latin typeface="Arial"/>
              </a:rPr>
              <a:t>Accent on Combi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01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600" spc="-1" strike="noStrike">
                <a:solidFill>
                  <a:srgbClr val="000000"/>
                </a:solidFill>
                <a:latin typeface="Arial"/>
              </a:rPr>
              <a:t>Health Saving Pla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01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600" spc="-1" strike="noStrike">
                <a:solidFill>
                  <a:srgbClr val="000000"/>
                </a:solidFill>
                <a:latin typeface="Arial"/>
              </a:rPr>
              <a:t>A variety of Retirement Solutions that can be offered through the banking plat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601"/>
              </a:spcAft>
              <a:buClr>
                <a:srgbClr val="e6503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Role of actuaries in product design for b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24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Huge need for business analytics relating to banc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24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Realistic assessment of morbidity and other risks on the banca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24"/>
              </a:spcBef>
              <a:spcAft>
                <a:spcPts val="601"/>
              </a:spcAft>
              <a:buClr>
                <a:srgbClr val="989898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A fresh approach on rural insu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1:54:03Z</dcterms:created>
  <dc:creator>administrator</dc:creator>
  <dc:description/>
  <dc:language>en-US</dc:language>
  <cp:lastModifiedBy>Rajagopalan Krishnamurthy (RFS/RCS/Life Ins, Mumbai)</cp:lastModifiedBy>
  <dcterms:modified xsi:type="dcterms:W3CDTF">2014-02-17T17:48:31Z</dcterms:modified>
  <cp:revision>48</cp:revision>
  <dc:subject/>
  <dc:title>Slide 1</dc:title>
</cp:coreProperties>
</file>